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4C6-632D-4A10-B9D4-B14CC16C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6CC-C388-4D50-B788-6EC7E05A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87B-16B6-4644-ACA9-B86F1FC3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D1D-9F3B-458F-BE8C-DDABCD67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355-D78C-4F95-B94C-F926D70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043-11D3-4AFC-A646-B1D98A0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4C8-B340-43B0-94BA-6EBD96AC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0AE-8B92-474F-B01A-9D7EA06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300-CF5D-48DC-BF7E-7D9BA49D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2188-80BB-4D84-B6D3-BBF3DFB8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88D-7214-4115-BF1E-536E57B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92A-5C2F-47FC-912A-AEB1C549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4A523-6071-45D0-A0BB-58100AFDC0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5EFD3-DDB3-44A2-BBE9-E2BD67583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800" y="1383840"/>
            <a:ext cx="7988400" cy="39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4 Corners: LOTF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Only the strongest, smartest, and most clever people should survive.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 “bigguns”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ould be responsible for the “littluns”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on the islan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ife on an island with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NO ADULT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ould be fu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oger and Maurice are act appropiately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re should be consequence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or bad behavior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im #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f you won’t get caught, it’s ok to engage in bad behavior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8:43:07Z</dcterms:created>
  <dc:creator>Teacher</dc:creator>
  <dc:description/>
  <dc:language>en-US</dc:language>
  <cp:lastModifiedBy>Teacher</cp:lastModifiedBy>
  <dcterms:modified xsi:type="dcterms:W3CDTF">2012-02-29T18:55:19Z</dcterms:modified>
  <cp:revision>6</cp:revision>
  <dc:subject/>
  <dc:title>4 Corners: LOTF  Chapter 4</dc:title>
</cp:coreProperties>
</file>